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5C0-8861-4D0F-BAB5-903809A2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E82-9F40-40BC-9959-FB1971AB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5EE-59CD-482F-9BA6-C3091DB2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D19-7C53-4BC2-ABF6-2827440B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BC5-B868-4C4F-96F3-3005F1F4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61DA-D1AE-40ED-8F13-A220CCB2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0AB9-D48B-46BB-99C1-5F164004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6B7-3740-4534-BE30-8DAE57FB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67D-39DC-492A-9B81-7B910BE7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451-686E-417B-B64C-8ED0C276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A7B-338D-4590-AD76-BD32BCA7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FC11-2E11-43D4-AF47-7E303402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1CFA-DDEB-407A-AEC3-852FFE6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C34-C85F-44DE-A660-7AE2F13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E2EA-6F7D-4EF9-AF89-7B7DB5E4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A502-88C9-4D4B-80E3-E06CB80B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02A-E45A-4F86-8AE2-667EDA8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787-1957-4815-AB72-677C2CD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4D7-4D17-48F2-AC83-90FFD94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A551-A448-45DB-86CD-997CB54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B6F-9BA6-4102-9BC6-C6E79AD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83A8-57C1-43B4-9AE0-AC00B2C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876-038C-495C-A02B-22B33616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B711-467E-4189-8632-E0B18AF1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346A-5F07-4A02-AF32-221DFD89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77BE-787B-4A8D-926A-B42A08D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5FE2-09B4-4F08-9AE6-C078968E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C161-A74B-4E1D-9FED-60DFA6D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892E-E64F-47B8-B02C-97DA72B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BFC-DC37-432E-B42E-00D4D52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68C9-2900-427A-8CCA-C1B5F23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79EB-1E31-492A-B3B1-A51C19C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113F-C20D-4487-9B5F-7355729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04DA-D6F9-47E4-8708-D97DFA2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9B67-1F33-4737-BFE3-A2C2DFE4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1504-D988-4C9B-BB82-0D749CD2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E2E0-286B-4D1A-BCBD-1570785A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1B61-09C0-4759-8A57-FC88546E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0E82-95A3-4785-A100-B533546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BB7A-469F-4DE0-B338-5DFF8DA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850-65F4-4ABC-98F3-BD01EF6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7697-97F6-4448-86E1-3A5D7D43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7F8D-B862-4DEC-9BF0-B2A84CB6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E981-9D45-439A-8B73-9F4016B7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E6C4-A18C-453B-8992-4A0B08D7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F4A3F-5BB9-4CB2-95E3-EE8FDA4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6F50-6762-4E82-B108-8F9ABE8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05D1-FEB5-4806-BEBD-A17035D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7382-FA73-478E-A10B-6C3C60CC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CD13-925D-4C76-8006-00395EB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D09B-5A7D-4BE8-907B-24024059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E7B-8EDD-43E7-BEA1-AB615DA6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7B91-1F7D-4AAD-854E-2AE402A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4303-19AD-4CA9-AC50-CB8BBD6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81C6-A92B-4DD8-8EF5-AFF8EC0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B1A9-7B29-4076-AA74-2DC7458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92B3-79B1-4F94-99ED-115E82D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30D3-3FB6-4302-AF24-497B550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7137-4F3F-464B-9580-D430129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0C6F-EAE0-4DE4-BDE8-E8CB34C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5678-DEE6-4EC3-A839-02D1474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63FA-6661-4310-A0AE-4258A5DF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5DB-F836-4F79-8B8B-39C9976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140B-F6D2-449D-AB14-D3EFD1E7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E929-4590-4406-9E65-16E8F8D2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585F-2FF5-449E-B6B2-692FC490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DD1B-AA62-4E80-B690-336FFFD2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DD13-F6CB-4026-A4FE-761F7BA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BE15-A179-462D-B038-1551082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824F-D81D-44E7-8BC7-EDD5890A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C526B-D152-4ADE-BED9-A231416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B28B-688F-45E2-87B0-41F4628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67EF-2D5D-4C04-8039-EC2810E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2E5-621A-4891-AF63-F1091D6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68665-778F-4484-864A-DA653CC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75E8-E666-45CE-BAF5-1AEC8E3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AA6D-D0F3-4AFC-9871-C780590A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6A28-BE4F-4D28-B693-1B71CD8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DEBB-DDA3-402C-8217-5C3BB5DD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C6367-602A-4E93-A901-D54E8B9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91D33-FE01-4026-9B17-AB39B58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F4E4-90A1-4A15-852A-973B10E5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D401-7D6D-4FE7-979C-AB524226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B5B4-EC22-4D1F-AB5D-653A3A15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2B2-E030-41EF-AEBD-19E942E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5AF7-DB82-4A92-A417-E6BB57C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8F0A-B150-4DE2-9442-EB9658C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D642-44A2-4D6E-821B-65B9995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F110-7058-40BB-BF6D-6CEAE5A0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9814-9C22-4EC7-8A9F-52F269B1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82A-13A2-420F-A13E-A2991BC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F45A-2D02-4D35-9FD4-3C2C75FE7C8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8FC-E4B0-425B-8485-D79D84E5A2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303-E13F-4120-A3D7-8E9CD2809BB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292-2D0E-4355-B08D-824851559DC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C99-93EC-47C2-8657-C2A7A0FDC7B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135-F000-474C-A355-17019732F4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6BB7-33D1-47F1-9DF4-C3A4D75DAD7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46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7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0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51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917080" y="566100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kitch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xin_521102151115828187602"/>
          <p:cNvPicPr/>
          <p:nvPr/>
        </p:nvPicPr>
        <p:blipFill>
          <a:blip r:embed="rId1"/>
          <a:srcRect l="7824" t="0" r="0" b="0"/>
          <a:stretch/>
        </p:blipFill>
        <p:spPr>
          <a:xfrm>
            <a:off x="2556000" y="1484280"/>
            <a:ext cx="38178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2269800" y="537372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arber’s c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1098845058_FLaONI"/>
          <p:cNvPicPr/>
          <p:nvPr/>
        </p:nvPicPr>
        <p:blipFill>
          <a:blip r:embed="rId1"/>
          <a:stretch/>
        </p:blipFill>
        <p:spPr>
          <a:xfrm>
            <a:off x="1979640" y="981000"/>
            <a:ext cx="525780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9"/>
          <p:cNvPicPr/>
          <p:nvPr/>
        </p:nvPicPr>
        <p:blipFill>
          <a:blip r:embed="rId1"/>
          <a:stretch/>
        </p:blipFill>
        <p:spPr>
          <a:xfrm>
            <a:off x="2124000" y="1008000"/>
            <a:ext cx="4969080" cy="4041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2485800" y="5516640"/>
            <a:ext cx="49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living-ro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228600" y="1828800"/>
          <a:ext cx="8610480" cy="22716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were you doing at eight last nigh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 was taking a showe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5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was she doing at the time of the rainstorm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e was doing her homework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378" name="Oval 10"/>
          <p:cNvSpPr/>
          <p:nvPr/>
        </p:nvSpPr>
        <p:spPr>
          <a:xfrm>
            <a:off x="2514600" y="533520"/>
            <a:ext cx="41148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Grammar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4114800"/>
          <a:ext cx="8610480" cy="182880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was he doing when the rainstorm came?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e was reading in the library when the rainstorm cam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0880" y="914400"/>
          <a:ext cx="8382240" cy="253044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25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was Ben doing when it began to rain heavily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en it began to rain, Ben was helping his mom make dinne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80880" y="3657600"/>
          <a:ext cx="8382240" cy="274320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was Jenny doing while Linda was sleep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ile Linda was sleeping, Jenny was helping Mary with her homework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   </a:t>
            </a: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Candara"/>
              </a:rPr>
              <a:t>以</a:t>
            </a: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when</a:t>
            </a:r>
            <a:r>
              <a:rPr b="1" lang="zh-CN" sz="3200" spc="-1" strike="noStrike">
                <a:solidFill>
                  <a:srgbClr val="000099"/>
                </a:solidFill>
                <a:latin typeface="Candara"/>
              </a:rPr>
              <a:t>和</a:t>
            </a: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while</a:t>
            </a:r>
            <a:r>
              <a:rPr b="1" lang="zh-CN" sz="3200" spc="-1" strike="noStrike">
                <a:solidFill>
                  <a:srgbClr val="000099"/>
                </a:solidFill>
                <a:latin typeface="Candara"/>
              </a:rPr>
              <a:t>引导的时间状语从句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延续性动词和非延续性动词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延续性动词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指动作可以延续一段时间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而不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瞬间结束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: work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study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drink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eat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非延续性动词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指动作极为短暂，瞬间结束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: start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begin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it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jump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knock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064360" cy="5328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在本单元中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出现了以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when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while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引导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时间状语从句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表示“当</a:t>
            </a:r>
            <a:r>
              <a:rPr b="1" lang="en-US" sz="2800" spc="-1" strike="noStrike">
                <a:solidFill>
                  <a:srgbClr val="073e87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的时候”。从句中既可用延续性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动词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又可用非延续性动词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这些动词既可以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表示动作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又可表示状态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句中的动作既可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主句的动作同时发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可在主句的动作之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之后发生。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如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Mary was having dinne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I saw her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The boy was still sleep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his mother got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home yesterday morning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表示“在</a:t>
            </a:r>
            <a:r>
              <a:rPr b="1" lang="en-US" sz="2800" spc="-1" strike="noStrike">
                <a:solidFill>
                  <a:srgbClr val="073e87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的时候”、“在</a:t>
            </a:r>
            <a:r>
              <a:rPr b="1" lang="en-US" sz="2800" spc="-1" strike="noStrike">
                <a:solidFill>
                  <a:srgbClr val="073e87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期间”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它强调主句的动作与从句的动作同时发生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主句的动作发生在从句的动作过程中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Whil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句中必须是表示动作或状态的延续性动词。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如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The weather was fin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we were in Beijing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    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She call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I was out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如果主句的动作在从句的动作过程中发生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从句常用进行时。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we were swimming someone stole our clothes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Don’t talk so lou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le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others are working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2592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2302"/>
                </a:solidFill>
                <a:latin typeface="Candara"/>
              </a:rPr>
              <a:t> </a:t>
            </a:r>
            <a:r>
              <a:rPr b="1" lang="zh-CN" sz="4000" spc="-1" strike="noStrike">
                <a:solidFill>
                  <a:srgbClr val="000099"/>
                </a:solidFill>
                <a:latin typeface="Candara"/>
              </a:rPr>
              <a:t>总结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) when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可指时间点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又可指时间段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从句中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可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延续性动词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也可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非延续性动词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2) whil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总是指一个时间段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从句中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必须用延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续性动词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324000" y="1268280"/>
            <a:ext cx="8064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 Jennifer was reading a magaz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s sister was listening to the pop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C. Wha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I was trying to draw a cat on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 the teacher ca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wh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when          C. wha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My best friend visited my house whil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dinner in the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coo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 cook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C. was 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2627280" y="5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332000" y="3284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219320" y="472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What were you doing when the rainstorm c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6"/>
          <p:cNvSpPr txBox="1"/>
          <p:nvPr/>
        </p:nvSpPr>
        <p:spPr>
          <a:xfrm>
            <a:off x="1676520" y="426708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ction A Grammar Foc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4.  ― When ______ the car ______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― 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In 1885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． 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2007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随州市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A. did; invent          B. was; invented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C. does; invent        D. is; invented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5. Our teacher wants us to be ______ when we talk with the foreigners.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(06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大连中考真题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A. comfortable              B. unusual       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  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C. grateful                     D. confident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556000" y="620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514836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6. — Dick gave me a note while I ______ in the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library. </a:t>
            </a:r>
            <a:br>
              <a:rPr sz="2800"/>
            </a:b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— I guess he made it to say “sorry” to you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(2007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黄冈市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) </a:t>
            </a:r>
            <a:br>
              <a:rPr sz="2800"/>
            </a:b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A. am reading                B. was reading     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C. reads                          D. will read 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 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796000" y="692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ndara"/>
              </a:rPr>
              <a:t>   </a:t>
            </a:r>
            <a:r>
              <a:rPr b="1" lang="en-US" sz="4400" spc="-1" strike="noStrike">
                <a:solidFill>
                  <a:srgbClr val="000099"/>
                </a:solidFill>
                <a:latin typeface="Candara"/>
              </a:rPr>
              <a:t>2. </a:t>
            </a:r>
            <a:r>
              <a:rPr b="1" lang="zh-CN" sz="4400" spc="-1" strike="noStrike">
                <a:solidFill>
                  <a:srgbClr val="000099"/>
                </a:solidFill>
                <a:latin typeface="Candara"/>
              </a:rPr>
              <a:t>过去进行时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75640" cy="4752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概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过去某一时刻或某段时间内正进行的动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构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as/were 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现在分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表示某一时刻正进行的行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特定的过去时间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连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的时间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at 8 last night, at this tim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at time, at that mome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W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 you do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10 yesterday morning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ri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 letter to my father at that moment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539640" y="1413000"/>
            <a:ext cx="7848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表示过去某段时间内正进行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 buil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 house last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 wai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you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否定句和疑问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leep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ee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61880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 </a:t>
            </a:r>
            <a:r>
              <a:rPr b="1" lang="en-US" sz="4000" spc="-1" strike="noStrike">
                <a:solidFill>
                  <a:srgbClr val="000099"/>
                </a:solidFill>
                <a:latin typeface="Candara"/>
              </a:rPr>
              <a:t> </a:t>
            </a:r>
            <a:r>
              <a:rPr b="1" lang="en-US" sz="4000" spc="-1" strike="noStrike">
                <a:solidFill>
                  <a:srgbClr val="000099"/>
                </a:solidFill>
                <a:latin typeface="Candara"/>
              </a:rPr>
              <a:t>3.</a:t>
            </a:r>
            <a:r>
              <a:rPr b="1" lang="zh-CN" sz="4000" spc="-1" strike="noStrike">
                <a:solidFill>
                  <a:srgbClr val="000099"/>
                </a:solidFill>
                <a:latin typeface="Candara"/>
              </a:rPr>
              <a:t>现在分词的构成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50920" y="155736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动词在词尾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ing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--go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不发音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的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先去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me--com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ke--making    write--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重读闭音节结尾的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末尾以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辅音字母结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应先双写这个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的除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--getting    swim--swimming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w--sh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  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95280" y="836640"/>
            <a:ext cx="8137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的单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rry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lay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udy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的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 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e → dying             lie  →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以元音字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或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结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发音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 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79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--seeing            be-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ndara"/>
              </a:rPr>
              <a:t>4.</a:t>
            </a:r>
            <a:r>
              <a:rPr b="1" lang="zh-CN" sz="4000" spc="-1" strike="noStrike">
                <a:solidFill>
                  <a:srgbClr val="000099"/>
                </a:solidFill>
                <a:latin typeface="Candara"/>
              </a:rPr>
              <a:t>使用进行时态的注意事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9280" y="1699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一些动词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se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ear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lov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lik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know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remember; understand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av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等表示感情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知觉和状态的词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一般不用于进行时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2)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ere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引起的句子中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常用一般现在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时代替现在进行时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e.g.  Here comes the bu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      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re goes the bell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3059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ndara"/>
              </a:rPr>
              <a:t>5. </a:t>
            </a:r>
            <a:r>
              <a:rPr b="1" lang="zh-CN" sz="4000" spc="-1" strike="noStrike">
                <a:solidFill>
                  <a:srgbClr val="000099"/>
                </a:solidFill>
                <a:latin typeface="Candara"/>
              </a:rPr>
              <a:t>过去进行时和一般过去时的区别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642520" cy="4537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1)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过去进行时表示过去正在进行的动作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而一般过去时则表示一个完整的动作。</a:t>
            </a: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如：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They were writing letters to their friends last night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昨晚他们在写信给他们的朋友。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没有说明信是否写完</a:t>
            </a: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They wrote letters to their friends last night 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 </a:t>
            </a: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他们昨晚写了信给他们的朋友。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表达了他们已写好的意思</a:t>
            </a: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3000" spc="-1" strike="noStrike">
                <a:solidFill>
                  <a:srgbClr val="073e87"/>
                </a:solidFill>
                <a:latin typeface="Times New Roman"/>
              </a:rPr>
              <a:t>整个写的过程已完成</a:t>
            </a:r>
            <a:r>
              <a:rPr b="1" lang="en-US" sz="3000" spc="-1" strike="noStrike">
                <a:solidFill>
                  <a:srgbClr val="073e87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)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当动作延续较长时间时或表示厌烦、赞美等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感情色彩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常用过去进行时表示。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如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 thinking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 more of others than of himself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他考虑别人的比考虑自己的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表示说话者赞扬的口气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 bo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 always making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 trouble then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那时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他总是惹麻烦。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73e87"/>
                </a:solidFill>
                <a:latin typeface="Times New Roman"/>
              </a:rPr>
              <a:t>表示说话者厌烦的口气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"/>
          <p:cNvSpPr/>
          <p:nvPr/>
        </p:nvSpPr>
        <p:spPr>
          <a:xfrm>
            <a:off x="5219640" y="692280"/>
            <a:ext cx="3124440" cy="110484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584d3"/>
                </a:solidFill>
                <a:latin typeface="Times New Roman"/>
                <a:ea typeface="隶书"/>
              </a:rPr>
              <a:t>过去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822920" y="1973160"/>
            <a:ext cx="4141800" cy="393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含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过去某个时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正在进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s/were +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was having an Englis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 at this time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304920" y="685800"/>
            <a:ext cx="3743280" cy="115236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584d3"/>
                </a:solidFill>
                <a:latin typeface="Times New Roman"/>
                <a:ea typeface="华文彩云"/>
              </a:rPr>
              <a:t>现在</a:t>
            </a:r>
            <a:r>
              <a:rPr b="0" lang="zh-CN" sz="3600" spc="-1" strike="noStrike">
                <a:solidFill>
                  <a:srgbClr val="4584d3"/>
                </a:solidFill>
                <a:latin typeface="Times New Roman"/>
                <a:ea typeface="隶书"/>
              </a:rPr>
              <a:t>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50920" y="1989000"/>
            <a:ext cx="4321080" cy="396108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含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现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正在进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</a:t>
            </a:r>
            <a:r>
              <a:rPr b="0" lang="en-GB" sz="2800" spc="-1" strike="noStrike" u="sng">
                <a:solidFill>
                  <a:srgbClr val="0066ff"/>
                </a:solidFill>
                <a:uFillTx/>
                <a:latin typeface="Times New Roman"/>
                <a:ea typeface="宋体"/>
              </a:rPr>
              <a:t>is/am/are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+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例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a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having an English class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95280" y="981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  <a:ea typeface="宋体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072080" y="457200"/>
            <a:ext cx="703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What were you doing whe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rainstorm c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2005101944851538"/>
          <p:cNvPicPr/>
          <p:nvPr/>
        </p:nvPicPr>
        <p:blipFill>
          <a:blip r:embed="rId1"/>
          <a:stretch/>
        </p:blipFill>
        <p:spPr>
          <a:xfrm>
            <a:off x="2590920" y="1752480"/>
            <a:ext cx="3295440" cy="3922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"/>
          <p:cNvSpPr/>
          <p:nvPr/>
        </p:nvSpPr>
        <p:spPr>
          <a:xfrm>
            <a:off x="2484360" y="5734080"/>
            <a:ext cx="45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ak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how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30040" y="533520"/>
            <a:ext cx="82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a. Look at the table and write sent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with bot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and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n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2133720"/>
          <a:ext cx="7924680" cy="4064040"/>
        </p:xfrm>
        <a:graphic>
          <a:graphicData uri="http://schemas.openxmlformats.org/drawingml/2006/table">
            <a:tbl>
              <a:tblPr/>
              <a:tblGrid>
                <a:gridCol w="2895480"/>
                <a:gridCol w="5029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John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ary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phot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 a 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y the pia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ve the ho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n his roo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 on the rad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the car to the car w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346320" y="609480"/>
            <a:ext cx="88005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taking photos, Mary bought a drin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taking photo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ary bought a drin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457200" y="3276720"/>
            <a:ext cx="80773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playing the piano, Mary left the 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playing the piano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ary left the 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80880" y="3886200"/>
            <a:ext cx="861084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shopping, Mary took the car to the car wa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shopping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took the car to the car wa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228600" y="914400"/>
            <a:ext cx="86104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cleaning his room, Mary turned on the rad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John was cleaning his room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Mary turned on the rad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458640" y="38088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b. Fill in the blanks with was, we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when or whi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94120" y="1676520"/>
            <a:ext cx="8523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t 7:00 a.m., I woke up. ______I ____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y breakfast, my brother_____ listening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dio. _______I was eating, the radio n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alked about a car accident near our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y brother and I went out right away to hav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ok. _______we got to the place of the acci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ar ______ in bad shape from hitting a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ut luckily, the driver ______fine. The 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icy because of the heavy snow fro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ight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4496400" y="167652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6020640" y="167652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4877640" y="22096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1600920" y="266688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1296000" y="411480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1677240" y="464832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4420440" y="510552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533880" y="556272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136800" y="876240"/>
            <a:ext cx="86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c. What were you doing at these times l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Sunday? Fill in the chart. Then ask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80880" y="3048120"/>
            <a:ext cx="8458200" cy="3139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were you doing at nine o’clock la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nday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 was sleeping. How about yo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I was doing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're kid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40323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ndara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Candara"/>
              </a:rPr>
              <a:t>Group work</a:t>
            </a: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1557360"/>
          <a:ext cx="7989840" cy="4797360"/>
        </p:xfrm>
        <a:graphic>
          <a:graphicData uri="http://schemas.openxmlformats.org/drawingml/2006/table">
            <a:tbl>
              <a:tblPr/>
              <a:tblGrid>
                <a:gridCol w="1655640"/>
                <a:gridCol w="1944720"/>
                <a:gridCol w="2232000"/>
                <a:gridCol w="21574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uden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a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udent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>
                        <a:alpha val="50000"/>
                      </a:srgbClr>
                    </a:solidFill>
                  </a:tcPr>
                </a:tc>
              </a:tr>
              <a:tr h="109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a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breakfa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>
                        <a:alpha val="50000"/>
                      </a:srgbClr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:3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a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>
                        <a:alpha val="50000"/>
                      </a:srgbClr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 book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a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>
                        <a:alpha val="50000"/>
                      </a:srgbClr>
                    </a:solidFill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ch T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a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395280" y="40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What were you doing at … last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280" y="1197000"/>
          <a:ext cx="7777080" cy="5060880"/>
        </p:xfrm>
        <a:graphic>
          <a:graphicData uri="http://schemas.openxmlformats.org/drawingml/2006/table">
            <a:tbl>
              <a:tblPr/>
              <a:tblGrid>
                <a:gridCol w="3816360"/>
                <a:gridCol w="39607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</a:tr>
              <a:tr h="18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73e87"/>
                      </a:solidFill>
                    </a:lnL>
                    <a:lnR w="5760">
                      <a:solidFill>
                        <a:srgbClr val="073e87"/>
                      </a:solidFill>
                    </a:lnR>
                    <a:lnT w="5760">
                      <a:solidFill>
                        <a:srgbClr val="073e87"/>
                      </a:solidFill>
                    </a:lnT>
                    <a:lnB w="5760">
                      <a:solidFill>
                        <a:srgbClr val="073e8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7" name="Picture 20" descr="j0088956"/>
          <p:cNvPicPr/>
          <p:nvPr/>
        </p:nvPicPr>
        <p:blipFill>
          <a:blip r:embed="rId1"/>
          <a:stretch/>
        </p:blipFill>
        <p:spPr>
          <a:xfrm>
            <a:off x="755640" y="1844640"/>
            <a:ext cx="3311640" cy="1746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1" descr="images_20050228_170530_60927"/>
          <p:cNvPicPr/>
          <p:nvPr/>
        </p:nvPicPr>
        <p:blipFill>
          <a:blip r:embed="rId2"/>
          <a:stretch/>
        </p:blipFill>
        <p:spPr>
          <a:xfrm>
            <a:off x="5003640" y="1844640"/>
            <a:ext cx="2090880" cy="1692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2" descr="10"/>
          <p:cNvPicPr/>
          <p:nvPr/>
        </p:nvPicPr>
        <p:blipFill>
          <a:blip r:embed="rId3"/>
          <a:stretch/>
        </p:blipFill>
        <p:spPr>
          <a:xfrm>
            <a:off x="1187280" y="4365720"/>
            <a:ext cx="2305080" cy="18748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3"/>
          <p:cNvGrpSpPr/>
          <p:nvPr/>
        </p:nvGrpSpPr>
        <p:grpSpPr>
          <a:xfrm>
            <a:off x="5435640" y="4437000"/>
            <a:ext cx="1871640" cy="1800360"/>
            <a:chOff x="5435640" y="4437000"/>
            <a:chExt cx="1871640" cy="1800360"/>
          </a:xfrm>
        </p:grpSpPr>
        <p:pic>
          <p:nvPicPr>
            <p:cNvPr id="441" name="Picture 24" descr="00015527"/>
            <p:cNvPicPr/>
            <p:nvPr/>
          </p:nvPicPr>
          <p:blipFill>
            <a:blip r:embed="rId4"/>
            <a:stretch/>
          </p:blipFill>
          <p:spPr>
            <a:xfrm>
              <a:off x="5435640" y="4437000"/>
              <a:ext cx="1871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25"/>
            <p:cNvSpPr/>
            <p:nvPr/>
          </p:nvSpPr>
          <p:spPr>
            <a:xfrm>
              <a:off x="5505480" y="4464360"/>
              <a:ext cx="6627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468360" y="765000"/>
            <a:ext cx="6624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were you doing at nine o’c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ast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 was running. How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I was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You’r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kid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r>
              <a:rPr b="1" lang="en-US" sz="3200" spc="-1" strike="noStrike">
                <a:solidFill>
                  <a:srgbClr val="0080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U2035P6T12D4600852F44DT20090923023947"/>
          <p:cNvPicPr/>
          <p:nvPr/>
        </p:nvPicPr>
        <p:blipFill>
          <a:blip r:embed="rId1"/>
          <a:stretch/>
        </p:blipFill>
        <p:spPr>
          <a:xfrm>
            <a:off x="4427640" y="3357720"/>
            <a:ext cx="4176720" cy="2836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611280" y="4724280"/>
            <a:ext cx="3457440" cy="5205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欺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;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戏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;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开玩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0"/>
          <p:cNvSpPr/>
          <p:nvPr/>
        </p:nvSpPr>
        <p:spPr>
          <a:xfrm>
            <a:off x="324000" y="1773360"/>
            <a:ext cx="8497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at ______ (be) you ______ (do) when he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Jim _____________ (sleep) when I cam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They _____________ (watch) TV at 8: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esterday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Now he __________ (read) and _________(write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763640" y="1844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211640" y="184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ing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476360" y="256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leeping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476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979640" y="465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s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5580000" y="465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539640" y="765000"/>
            <a:ext cx="5977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用所给词的正确形式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457200" y="1066680"/>
            <a:ext cx="828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Mother _____________ (wash) clothes when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 (get) home from school yester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Look, my sister _______ (be) there in the bar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op. The barber _____________ (cut)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 ---When _______ you ________ (see)  the acc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I ______ (see) it fifteen minute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2185920" y="10666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1249200" y="17146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3554280" y="3011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3841920" y="36590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u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546280" y="43070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4489560" y="4307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1609560" y="48830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5"/>
          <p:cNvSpPr/>
          <p:nvPr/>
        </p:nvSpPr>
        <p:spPr>
          <a:xfrm>
            <a:off x="3125520" y="556272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leep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睡觉 搞笑 儿童  儿童-日韩盛典-日韩盛典,儿童"/>
          <p:cNvPicPr/>
          <p:nvPr/>
        </p:nvPicPr>
        <p:blipFill>
          <a:blip r:embed="rId1"/>
          <a:stretch/>
        </p:blipFill>
        <p:spPr>
          <a:xfrm>
            <a:off x="1619280" y="836640"/>
            <a:ext cx="571500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6767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Ⅱ</a:t>
            </a:r>
            <a:r>
              <a:rPr b="1" lang="en-US" sz="3200" spc="-1" strike="noStrike">
                <a:solidFill>
                  <a:srgbClr val="000099"/>
                </a:solidFill>
                <a:latin typeface="Candara"/>
              </a:rPr>
              <a:t>. Translate these sentences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上课铃响时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你在干什么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What _____ you ______ when the class bell rang?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当我妈妈进来时我正在看书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I _____ ________ when my mother came i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73e87"/>
                </a:solidFill>
                <a:latin typeface="Times New Roman"/>
              </a:rPr>
              <a:t>昨天晚上十点钟她正在做饭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</a:rPr>
              <a:t>She ____ ________ at ten o’clock ______ _______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1547640" y="234936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276720" y="2349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900000" y="35733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1258920" y="486900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867280" y="486900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ast     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32400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飞机起飞的时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正下着大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_______________heavily when the pl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孩子们正在追逐一只小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ook! The children ___________________ a small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女儿正在写信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的孩子都在外面玩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y daughter was writing a lette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other children _______________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900000" y="22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o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of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3276720" y="5445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116000" y="1628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564000" y="3500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a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5724360" y="47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380880" y="1371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762120" y="13716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468360" y="1413000"/>
            <a:ext cx="79912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昨天早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点钟你在干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明飞行物起飞时，小明正在骑自行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时，他们正在做家庭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80880" y="1981080"/>
            <a:ext cx="851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were you doing at 9 o’clock yesterday mor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611280" y="3716280"/>
            <a:ext cx="799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Xiao Ming was riding his bike when the UF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ok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684360" y="580536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They were doing their homework at tha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755640" y="515772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539640" y="620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Ⅲ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533520" y="1143000"/>
            <a:ext cx="7848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今早给你打电话的时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正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他正睡觉的时候他梦见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李雷在吃早饭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吉姆进来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49160" y="1792440"/>
            <a:ext cx="7777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were you doing when I called you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71400" y="379080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he was sleeping, she dreamed about U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519120" y="5391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le Li Lei was having breakfast, Jim ca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5627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ndara"/>
              </a:rPr>
              <a:t>Homework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85800" y="2438280"/>
            <a:ext cx="770400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re you doing at these t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ast Sunday? Practice more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m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3204360" y="5516640"/>
            <a:ext cx="29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ook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xin_521102151115828187602"/>
          <p:cNvPicPr/>
          <p:nvPr/>
        </p:nvPicPr>
        <p:blipFill>
          <a:blip r:embed="rId1"/>
          <a:srcRect l="7824" t="0" r="0" b="0"/>
          <a:stretch/>
        </p:blipFill>
        <p:spPr>
          <a:xfrm>
            <a:off x="2556000" y="1413000"/>
            <a:ext cx="381780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772720" y="5445000"/>
            <a:ext cx="37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ut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ai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1098845058_FLaONI"/>
          <p:cNvPicPr/>
          <p:nvPr/>
        </p:nvPicPr>
        <p:blipFill>
          <a:blip r:embed="rId1"/>
          <a:stretch/>
        </p:blipFill>
        <p:spPr>
          <a:xfrm>
            <a:off x="2050920" y="981000"/>
            <a:ext cx="52578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9"/>
          <p:cNvPicPr/>
          <p:nvPr/>
        </p:nvPicPr>
        <p:blipFill>
          <a:blip r:embed="rId1"/>
          <a:stretch/>
        </p:blipFill>
        <p:spPr>
          <a:xfrm>
            <a:off x="2050920" y="1052640"/>
            <a:ext cx="4824720" cy="3924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3133080" y="5516640"/>
            <a:ext cx="29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ea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2005101944851538"/>
          <p:cNvPicPr/>
          <p:nvPr/>
        </p:nvPicPr>
        <p:blipFill>
          <a:blip r:embed="rId1"/>
          <a:stretch/>
        </p:blipFill>
        <p:spPr>
          <a:xfrm>
            <a:off x="2743200" y="2209680"/>
            <a:ext cx="3024360" cy="32162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"/>
          <p:cNvSpPr/>
          <p:nvPr/>
        </p:nvSpPr>
        <p:spPr>
          <a:xfrm>
            <a:off x="2411640" y="5589720"/>
            <a:ext cx="45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athro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1066680" y="457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Where were you whe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rainstorm c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1042920" y="765000"/>
            <a:ext cx="1368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701080" y="551664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edro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睡觉 搞笑 儿童  儿童-日韩盛典-日韩盛典,儿童"/>
          <p:cNvPicPr/>
          <p:nvPr/>
        </p:nvPicPr>
        <p:blipFill>
          <a:blip r:embed="rId1"/>
          <a:stretch/>
        </p:blipFill>
        <p:spPr>
          <a:xfrm>
            <a:off x="1835280" y="692280"/>
            <a:ext cx="5715000" cy="44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40:44Z</dcterms:modified>
  <cp:revision>14</cp:revision>
  <dc:subject/>
  <dc:title>PowerPoint 演示文稿</dc:title>
</cp:coreProperties>
</file>